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0A08-608C-49C2-A2D9-B2C9866B5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198-234F-4B98-8C3F-6FBC8C3D8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FE37-DA2D-44CE-A387-D4D5C2D0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FD4C-2114-4D8B-BEF0-4DF475CFF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2F6-882E-4E03-9167-3F2C4A27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FAF-BA83-4055-B17F-E6A61976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269-E18A-41E1-952B-1228DBA5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21D-97F5-4B0D-BB08-E0022316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F8A1-A83A-4B32-822D-A80A4EFB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73BB-D14D-436E-82CF-A31F94A4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37F8-F4D6-4646-AFF9-72E7901F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0FC4-9DF5-4FD4-AC64-44CF61B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26C1-D522-4E94-873E-8FB2DA89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A9A7-6781-4489-9ACB-DD728014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BBD-1DFE-4A39-A021-52D00F0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9F6-184C-4EAA-B4B6-8183434D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EF55-D1DF-46BA-BD0A-BC6836F0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D6AA-9C0A-4E90-8E8D-E63A982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DBAC-C7D8-4A1E-90F9-49B4921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8B14-41C0-4A98-B51F-7915D4CB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BCBC-D34F-414C-88A7-CE25EA04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EAD-6E54-4E72-B392-04396171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51A-48BA-48B3-AC6C-F4346196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7A1-E9BE-4F20-A5E6-9B8D4B65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BD1-AB09-47DF-BE07-F21A7952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D49-2A5A-4881-B7F4-F6E0333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23F-1582-4D43-9C28-7C841D1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15E-5D07-4C62-A59C-EE25945E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83C9-3976-444C-9516-EDCEFF2E0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5E43-665A-4A2B-BE8C-3A9A3373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 No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84872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tory of the 3 little pigs, who has power?  In what way do they have power?  How do you know they have power?  How did they get thi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362320" y="28954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question(s) that most interest you and try to write for the whole 5 minutes. This is an independent silent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corncorps.files.wordpress.com/2011/03/710459-drunk-pigs-1.jpg"/>
          <p:cNvPicPr/>
          <p:nvPr/>
        </p:nvPicPr>
        <p:blipFill>
          <a:blip r:embed="rId2"/>
          <a:stretch/>
        </p:blipFill>
        <p:spPr>
          <a:xfrm>
            <a:off x="838080" y="68580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power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/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(physical, military,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/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/intim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/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/intim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/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57800" y="1904760"/>
            <a:ext cx="358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i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/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 concept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14040" y="1752480"/>
            <a:ext cx="8110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can be given/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not equ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s of power shift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sit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has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sed ident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forced set of beliefs about someone that is often false; a stere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power: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do something or act in a particular way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acity or ability to direct or influence the behavior of others or the course of events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socia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control; esp. as exercised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489640" y="15228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Oxford American Dict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1:14:48Z</dcterms:created>
  <dc:creator>Office 2004 Test Drive User</dc:creator>
  <dc:description/>
  <dc:language>en-US</dc:language>
  <cp:lastModifiedBy>Erin Coppola-Klein</cp:lastModifiedBy>
  <dcterms:modified xsi:type="dcterms:W3CDTF">2015-08-24T14:18:05Z</dcterms:modified>
  <cp:revision>8</cp:revision>
  <dc:subject/>
  <dc:title>Potpourri (aka things that need doing)</dc:title>
</cp:coreProperties>
</file>